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EC2B-E1C8-491E-91C3-46EA1EEED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366C-E495-4C96-8AA3-1B67E0364727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A364-62BA-4BE8-B1B0-AD3FF2A0E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44E9-85C0-495A-9D08-06028844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A663-EB76-4CEC-98C1-6D00175BD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E692-816E-46A0-A747-06902EBFA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DD263-C0CA-4B5C-97EA-106B526F5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A95A-5A58-4D1A-8AA0-76330157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3212-8BE7-40E3-8342-A6F4F7F1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E99BE-D8E7-44A0-A366-7D64744B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3AE8-5A38-4333-9727-A3A46E5B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0DE3-8ABA-4E36-8E12-9E355A23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1E24-4D7C-428F-9ABE-DB13F08F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EB14-4557-4601-ADDA-7BDCE56F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4AAD-C4CE-4E1B-9303-A89E1D33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B7F4-57D5-4D5A-B56D-6B6AE2CC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7450E-C0A9-4434-BF32-4F49EB94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FD615-9F48-4343-86F9-7B89BD2A2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3A686-9E25-4297-884B-3FA762B5B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E6C0-7988-41B8-BC1B-57D03A38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D58C-20F5-4152-8284-F396C3CA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0D5F-8C17-426B-9FD6-C14F85CB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13FA-F023-40DD-A2ED-6DB03374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B8BD-9E32-4B83-9B8A-13912D76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4273-81D2-471A-8DA2-DB4C72E3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7E49-B4A7-46A0-9AE9-EB6D8CD3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B770-3F67-4913-8744-9D725F64A19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AB29-732C-4FA2-B826-BF75BF4F76A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P European Hist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am format, tips and trick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final scor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DBQ (out of 9)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__________ X 4.5  = ___________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hematic I (out of 9)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__________ X 2.75 = ___________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hematic II (out of 9)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__________ X 2.75 = ____________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um of essay weighted scores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= ____________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mposite Scor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_____________ + _______________ = _________________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Weighted 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  Weighted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    Composite Score       Section I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  Section II         (round to nearest whole number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0" y="1295280"/>
            <a:ext cx="92012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Final Scor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5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ultiple choice score (see slide 7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6 on DBQ  (6 X 4.75 =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8.5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5 on T1       (5 X 2.75 =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3.75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 on T2       (4 X 2.75 =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1.00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d all weighted Part II scores together and round to the nearest whole numb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tion II Score =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53.25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 5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-22896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Final Scor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360" y="91440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tion I + Section II = _______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45 + 53 = 98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04920" y="2057400"/>
          <a:ext cx="8458200" cy="3840120"/>
        </p:xfrm>
        <a:graphic>
          <a:graphicData uri="http://schemas.openxmlformats.org/drawingml/2006/table">
            <a:tbl>
              <a:tblPr/>
              <a:tblGrid>
                <a:gridCol w="2114280"/>
                <a:gridCol w="1238400"/>
                <a:gridCol w="2990880"/>
                <a:gridCol w="211464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Composite Rang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P Grad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College Board definitions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verage college grad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22-18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Extremely well qualified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99-121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Well qualified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66-98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Qualified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5-65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Possibly qualified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-44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No recommendation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304920" y="1752480"/>
          <a:ext cx="8458200" cy="3840120"/>
        </p:xfrm>
        <a:graphic>
          <a:graphicData uri="http://schemas.openxmlformats.org/drawingml/2006/table">
            <a:tbl>
              <a:tblPr/>
              <a:tblGrid>
                <a:gridCol w="2114280"/>
                <a:gridCol w="1238400"/>
                <a:gridCol w="2990880"/>
                <a:gridCol w="211464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Composite Rang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P Grad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College Board definitions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verage college grad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22-18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Extremely well qualified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99-121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0f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Well qualified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66-98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Qualified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5-65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Possibly qualified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-44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No recommendation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60955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A 110 composite score would be a 4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Text Box 40"/>
          <p:cNvSpPr/>
          <p:nvPr/>
        </p:nvSpPr>
        <p:spPr>
          <a:xfrm>
            <a:off x="306360" y="304920"/>
            <a:ext cx="851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___49.5______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+_____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60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__________ =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__110____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Weighted 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       Weighted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         Composite Sco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Section I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      Section II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   (round to nearest whole number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7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ell Curv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38088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nationwide scores on the AP European History exam generally form a bell curv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elow is a breakdown of a recent exam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762120" y="320040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80880" y="2743200"/>
          <a:ext cx="7696440" cy="3124080"/>
        </p:xfrm>
        <a:graphic>
          <a:graphicData uri="http://schemas.openxmlformats.org/drawingml/2006/table">
            <a:tbl>
              <a:tblPr/>
              <a:tblGrid>
                <a:gridCol w="2895840"/>
                <a:gridCol w="1274760"/>
                <a:gridCol w="1552320"/>
                <a:gridCol w="1973520"/>
              </a:tblGrid>
              <a:tr h="836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Score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Number of students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ercent at Grade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Extremely well qualified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6,39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1.9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Well qualified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1,206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.9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Qualified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9,451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36.3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Possibly qualified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9,506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7.8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Not recommendation 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6,958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3.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33436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art I: Multiple Choice Sec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here are 80 multiple choice questions, each with 5 possible answer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You will have 55 minutes to do thes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You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will not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know the answer to every question. Some will be on information that is not in your book and was never discussed in class. That’s ok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art I: Multiple Choice Sec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If you have a question for which you  do not know the answer,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uess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art I: Multiple Choice Sec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You are awarded ONE POINT for every correct answ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You gain/lose nothing for questions answered incorrect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number correct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125 = MC score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art I: Multiple Choice Sec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40 questions correct     </a:t>
            </a:r>
            <a:r>
              <a:rPr b="0" i="1" lang="en-US" sz="4000" spc="-1" strike="noStrike">
                <a:solidFill>
                  <a:srgbClr val="ffffcc"/>
                </a:solidFill>
                <a:latin typeface="Times New Roman"/>
              </a:rPr>
              <a:t>(40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imes New Roman"/>
              </a:rPr>
              <a:t>40 X 1.125 = 45  Part I Scor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imes New Roman"/>
              </a:rPr>
              <a:t>This is 50 percent of the total test scor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ection IIA: Document Based Ques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essay is worth 45% of the Part II score,    27 ½ % of the total exam sco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is scored on a rubric scale of 1-9. You have a copy of a generic rubric in your study guid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re will be about 12 documents. You must use at one more than half and analyze at least 3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utside information is required for a score higher than 6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117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ection IIA: Document Based Ques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You will have a 15 minute mandatory read time where you will read the docs, take notes, make an outline, note analysis and outside info, et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fter 15 minutes, you will be told to open the booklet and to start writing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You should spend approximately 45 writing this essa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 reality, you’ll probably spend closer to an hou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ection IIB: Thematic Essay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You will have two groups of three essay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You must select one essay from each grou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ach essay is worth 27 ½ % of the Part II score, which is 13.75% of the entire test ea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y are graded on a 1-9 point sca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ection IIB: Thematic Essay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You should spend 5 minutes organizing each essay, and approximately 30 minutes writing each on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4:17:12Z</dcterms:created>
  <dc:creator>workshopguest1</dc:creator>
  <dc:description/>
  <dc:language>en-US</dc:language>
  <cp:lastModifiedBy>Administrator</cp:lastModifiedBy>
  <cp:lastPrinted>2013-04-25T16:24:07Z</cp:lastPrinted>
  <dcterms:modified xsi:type="dcterms:W3CDTF">2013-04-25T16:24:21Z</dcterms:modified>
  <cp:revision>9</cp:revision>
  <dc:subject/>
  <dc:title>AP European History</dc:title>
</cp:coreProperties>
</file>